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DFD94E77-A9A9-4BB9-999D-8B85B9F0BD7F}" type="doc">
      <dgm:prSet loTypeId="urn:microsoft.com/office/officeart/2005/8/layout/process5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C5F65B26-70C3-4EC3-80FF-645B17D99BC9}">
      <dgm:prSet phldrT="[文本]"/>
      <dgm:spPr/>
      <dgm:t>
        <a:bodyPr/>
        <a:lstStyle/>
        <a:p>
          <a:r>
            <a:rPr lang="en-US" altLang="zh-CN" dirty="0" smtClean="0"/>
            <a:t>Generate layout of memory blocks (using </a:t>
          </a:r>
          <a:r>
            <a:rPr lang="en-US" altLang="zh-CN" dirty="0" err="1" smtClean="0"/>
            <a:t>FabMem</a:t>
          </a:r>
          <a:r>
            <a:rPr lang="en-US" altLang="zh-CN" dirty="0" smtClean="0"/>
            <a:t> tool)</a:t>
          </a:r>
          <a:endParaRPr lang="zh-CN" altLang="en-US" dirty="0"/>
        </a:p>
      </dgm:t>
    </dgm:pt>
    <dgm:pt modelId="{CBDE275E-B573-4770-8303-077C22A2BF4A}" type="parTrans" cxnId="{7194AE7C-6E29-4EEF-8CD1-4FFA4E7958A5}">
      <dgm:prSet/>
      <dgm:spPr/>
      <dgm:t>
        <a:bodyPr/>
        <a:lstStyle/>
        <a:p>
          <a:endParaRPr lang="zh-CN" altLang="en-US"/>
        </a:p>
      </dgm:t>
    </dgm:pt>
    <dgm:pt modelId="{E722E5FC-D928-47D7-A60F-3C3C78180818}" type="sibTrans" cxnId="{7194AE7C-6E29-4EEF-8CD1-4FFA4E7958A5}">
      <dgm:prSet/>
      <dgm:spPr/>
      <dgm:t>
        <a:bodyPr/>
        <a:lstStyle/>
        <a:p>
          <a:endParaRPr lang="zh-CN" altLang="en-US"/>
        </a:p>
      </dgm:t>
    </dgm:pt>
    <dgm:pt modelId="{9A43AE84-2CCF-4AA0-885F-4D3E5A727EE9}">
      <dgm:prSet phldrT="[文本]"/>
      <dgm:spPr/>
      <dgm:t>
        <a:bodyPr/>
        <a:lstStyle/>
        <a:p>
          <a:r>
            <a:rPr lang="en-US" altLang="zh-CN" dirty="0" smtClean="0"/>
            <a:t>Extract GDSII files and double the size of memory blocks</a:t>
          </a:r>
          <a:endParaRPr lang="zh-CN" altLang="en-US" dirty="0"/>
        </a:p>
      </dgm:t>
    </dgm:pt>
    <dgm:pt modelId="{11E9C8A9-69D0-447C-9EC1-342B990F6B60}" type="parTrans" cxnId="{4DF0DDC7-81B5-43F0-973B-AC74CEC50AF3}">
      <dgm:prSet/>
      <dgm:spPr/>
      <dgm:t>
        <a:bodyPr/>
        <a:lstStyle/>
        <a:p>
          <a:endParaRPr lang="zh-CN" altLang="en-US"/>
        </a:p>
      </dgm:t>
    </dgm:pt>
    <dgm:pt modelId="{F08B05FE-E353-4468-B272-29A39D374BF1}" type="sibTrans" cxnId="{4DF0DDC7-81B5-43F0-973B-AC74CEC50AF3}">
      <dgm:prSet/>
      <dgm:spPr/>
      <dgm:t>
        <a:bodyPr/>
        <a:lstStyle/>
        <a:p>
          <a:endParaRPr lang="zh-CN" altLang="en-US"/>
        </a:p>
      </dgm:t>
    </dgm:pt>
    <dgm:pt modelId="{E1E399BA-9D0E-45C1-B62B-3D1A49DF17DD}">
      <dgm:prSet phldrT="[文本]"/>
      <dgm:spPr/>
      <dgm:t>
        <a:bodyPr/>
        <a:lstStyle/>
        <a:p>
          <a:r>
            <a:rPr lang="en-US" altLang="zh-CN" dirty="0" smtClean="0"/>
            <a:t>Import GDSII files into </a:t>
          </a:r>
          <a:r>
            <a:rPr lang="en-US" altLang="zh-CN" dirty="0" err="1" smtClean="0"/>
            <a:t>Milkyway</a:t>
          </a:r>
          <a:r>
            <a:rPr lang="en-US" altLang="zh-CN" dirty="0" smtClean="0"/>
            <a:t> Environment and create CEL view</a:t>
          </a:r>
          <a:endParaRPr lang="zh-CN" altLang="en-US" dirty="0"/>
        </a:p>
      </dgm:t>
    </dgm:pt>
    <dgm:pt modelId="{C8F68E95-24C2-4604-9E8A-6C65C9BE5E76}" type="parTrans" cxnId="{67B89A13-1B2E-4FE4-90CD-CD0CBAF4DA10}">
      <dgm:prSet/>
      <dgm:spPr/>
      <dgm:t>
        <a:bodyPr/>
        <a:lstStyle/>
        <a:p>
          <a:endParaRPr lang="zh-CN" altLang="en-US"/>
        </a:p>
      </dgm:t>
    </dgm:pt>
    <dgm:pt modelId="{220CA298-1280-4CB3-9CA4-7255A0AC28CC}" type="sibTrans" cxnId="{67B89A13-1B2E-4FE4-90CD-CD0CBAF4DA10}">
      <dgm:prSet/>
      <dgm:spPr/>
      <dgm:t>
        <a:bodyPr/>
        <a:lstStyle/>
        <a:p>
          <a:endParaRPr lang="zh-CN" altLang="en-US"/>
        </a:p>
      </dgm:t>
    </dgm:pt>
    <dgm:pt modelId="{7FE2AD5F-3FBF-47C0-8D56-98C9D394393D}">
      <dgm:prSet phldrT="[文本]"/>
      <dgm:spPr/>
      <dgm:t>
        <a:bodyPr/>
        <a:lstStyle/>
        <a:p>
          <a:r>
            <a:rPr lang="en-US" altLang="zh-CN" dirty="0" smtClean="0"/>
            <a:t>Create FRAM view from the CEL view and get physical library of memory blocks</a:t>
          </a:r>
          <a:endParaRPr lang="zh-CN" altLang="en-US" dirty="0"/>
        </a:p>
      </dgm:t>
    </dgm:pt>
    <dgm:pt modelId="{E93743BB-7E13-4AEA-80F4-BA164BDAAF6E}" type="parTrans" cxnId="{F72C8C66-09FB-4EC1-87EC-9FC1DCA58D4C}">
      <dgm:prSet/>
      <dgm:spPr/>
      <dgm:t>
        <a:bodyPr/>
        <a:lstStyle/>
        <a:p>
          <a:endParaRPr lang="zh-CN" altLang="en-US"/>
        </a:p>
      </dgm:t>
    </dgm:pt>
    <dgm:pt modelId="{3CC67942-B1B8-4563-844D-C517F9E919B0}" type="sibTrans" cxnId="{F72C8C66-09FB-4EC1-87EC-9FC1DCA58D4C}">
      <dgm:prSet/>
      <dgm:spPr/>
      <dgm:t>
        <a:bodyPr/>
        <a:lstStyle/>
        <a:p>
          <a:endParaRPr lang="zh-CN" altLang="en-US"/>
        </a:p>
      </dgm:t>
    </dgm:pt>
    <dgm:pt modelId="{EB50A715-B71D-4D0D-A148-0F2FA59DC79A}">
      <dgm:prSet phldrT="[文本]"/>
      <dgm:spPr/>
      <dgm:t>
        <a:bodyPr/>
        <a:lstStyle/>
        <a:p>
          <a:r>
            <a:rPr lang="en-US" altLang="zh-CN" dirty="0" smtClean="0"/>
            <a:t>Create </a:t>
          </a:r>
          <a:r>
            <a:rPr lang="en-US" altLang="zh-CN" dirty="0" err="1" smtClean="0"/>
            <a:t>Milkyway</a:t>
          </a:r>
          <a:r>
            <a:rPr lang="en-US" altLang="zh-CN" dirty="0" smtClean="0"/>
            <a:t> library in ICC and reference the physical library of memory blocks</a:t>
          </a:r>
          <a:endParaRPr lang="zh-CN" altLang="en-US" dirty="0"/>
        </a:p>
      </dgm:t>
    </dgm:pt>
    <dgm:pt modelId="{75FFC303-7951-4E2C-BD2D-C4BBC971EDDF}" type="parTrans" cxnId="{70BCBA68-F700-4A61-931D-10D0382ACABA}">
      <dgm:prSet/>
      <dgm:spPr/>
      <dgm:t>
        <a:bodyPr/>
        <a:lstStyle/>
        <a:p>
          <a:endParaRPr lang="zh-CN" altLang="en-US"/>
        </a:p>
      </dgm:t>
    </dgm:pt>
    <dgm:pt modelId="{EC59C6FD-CAE7-4088-8CB2-EFC08A162824}" type="sibTrans" cxnId="{70BCBA68-F700-4A61-931D-10D0382ACABA}">
      <dgm:prSet/>
      <dgm:spPr/>
      <dgm:t>
        <a:bodyPr/>
        <a:lstStyle/>
        <a:p>
          <a:endParaRPr lang="zh-CN" altLang="en-US"/>
        </a:p>
      </dgm:t>
    </dgm:pt>
    <dgm:pt modelId="{164FBE7C-5855-48BD-845A-16886964536A}">
      <dgm:prSet phldrT="[文本]"/>
      <dgm:spPr/>
      <dgm:t>
        <a:bodyPr/>
        <a:lstStyle/>
        <a:p>
          <a:r>
            <a:rPr lang="en-US" altLang="zh-CN" dirty="0" smtClean="0"/>
            <a:t>Layer mapping file</a:t>
          </a:r>
          <a:endParaRPr lang="zh-CN" altLang="en-US" dirty="0"/>
        </a:p>
      </dgm:t>
    </dgm:pt>
    <dgm:pt modelId="{B80050D1-2A52-4AE6-AE76-5521697E902C}" type="parTrans" cxnId="{EEEA9B79-704C-4FD6-8BBC-B96FF3CB8569}">
      <dgm:prSet/>
      <dgm:spPr/>
      <dgm:t>
        <a:bodyPr/>
        <a:lstStyle/>
        <a:p>
          <a:endParaRPr lang="zh-CN" altLang="en-US"/>
        </a:p>
      </dgm:t>
    </dgm:pt>
    <dgm:pt modelId="{4483194D-C3BA-4587-A5C9-CCFB26D36EB5}" type="sibTrans" cxnId="{EEEA9B79-704C-4FD6-8BBC-B96FF3CB8569}">
      <dgm:prSet/>
      <dgm:spPr/>
      <dgm:t>
        <a:bodyPr/>
        <a:lstStyle/>
        <a:p>
          <a:endParaRPr lang="zh-CN" altLang="en-US"/>
        </a:p>
      </dgm:t>
    </dgm:pt>
    <dgm:pt modelId="{C00EB2A6-70E4-4331-879E-CE5AF67D6005}" type="pres">
      <dgm:prSet presAssocID="{DFD94E77-A9A9-4BB9-999D-8B85B9F0BD7F}" presName="diagram" presStyleCnt="0">
        <dgm:presLayoutVars>
          <dgm:dir/>
          <dgm:resizeHandles val="exact"/>
        </dgm:presLayoutVars>
      </dgm:prSet>
      <dgm:spPr/>
    </dgm:pt>
    <dgm:pt modelId="{9876C103-B123-4EBE-BDF4-F692E3A0478F}" type="pres">
      <dgm:prSet presAssocID="{C5F65B26-70C3-4EC3-80FF-645B17D99BC9}" presName="node" presStyleLbl="node1" presStyleIdx="0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F2CADC5-4BD7-4785-A5CD-E79F3A057FDE}" type="pres">
      <dgm:prSet presAssocID="{E722E5FC-D928-47D7-A60F-3C3C78180818}" presName="sibTrans" presStyleLbl="sibTrans2D1" presStyleIdx="0" presStyleCnt="5"/>
      <dgm:spPr/>
    </dgm:pt>
    <dgm:pt modelId="{9F6E1840-1A51-4E56-B500-03242AD245B8}" type="pres">
      <dgm:prSet presAssocID="{E722E5FC-D928-47D7-A60F-3C3C78180818}" presName="connectorText" presStyleLbl="sibTrans2D1" presStyleIdx="0" presStyleCnt="5"/>
      <dgm:spPr/>
    </dgm:pt>
    <dgm:pt modelId="{D5E21D48-2409-447D-8776-B82895CD7169}" type="pres">
      <dgm:prSet presAssocID="{9A43AE84-2CCF-4AA0-885F-4D3E5A727EE9}" presName="node" presStyleLbl="node1" presStyleIdx="1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D6A0441-DA08-44DF-9508-C11F179A749E}" type="pres">
      <dgm:prSet presAssocID="{F08B05FE-E353-4468-B272-29A39D374BF1}" presName="sibTrans" presStyleLbl="sibTrans2D1" presStyleIdx="1" presStyleCnt="5"/>
      <dgm:spPr/>
    </dgm:pt>
    <dgm:pt modelId="{3B22E1BC-36DE-4D18-97C1-125222AAF8DD}" type="pres">
      <dgm:prSet presAssocID="{F08B05FE-E353-4468-B272-29A39D374BF1}" presName="connectorText" presStyleLbl="sibTrans2D1" presStyleIdx="1" presStyleCnt="5"/>
      <dgm:spPr/>
    </dgm:pt>
    <dgm:pt modelId="{BF7C7106-AC1A-41C0-9E05-9CEE566B844B}" type="pres">
      <dgm:prSet presAssocID="{E1E399BA-9D0E-45C1-B62B-3D1A49DF17DD}" presName="node" presStyleLbl="node1" presStyleIdx="2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901D8E8-F7B5-4F7E-9F96-9F30B58F4E28}" type="pres">
      <dgm:prSet presAssocID="{220CA298-1280-4CB3-9CA4-7255A0AC28CC}" presName="sibTrans" presStyleLbl="sibTrans2D1" presStyleIdx="2" presStyleCnt="5"/>
      <dgm:spPr/>
    </dgm:pt>
    <dgm:pt modelId="{08B721F2-2538-4FB6-8C7D-F85B0E9380DE}" type="pres">
      <dgm:prSet presAssocID="{220CA298-1280-4CB3-9CA4-7255A0AC28CC}" presName="connectorText" presStyleLbl="sibTrans2D1" presStyleIdx="2" presStyleCnt="5"/>
      <dgm:spPr/>
    </dgm:pt>
    <dgm:pt modelId="{6A49ECED-3A72-487E-8E6B-83A21381C528}" type="pres">
      <dgm:prSet presAssocID="{7FE2AD5F-3FBF-47C0-8D56-98C9D394393D}" presName="node" presStyleLbl="node1" presStyleIdx="3" presStyleCnt="6" custLinFactNeighborX="38" custLinFactNeighborY="57745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3F65D1-7A01-451C-8E32-A15B2B4089FE}" type="pres">
      <dgm:prSet presAssocID="{3CC67942-B1B8-4563-844D-C517F9E919B0}" presName="sibTrans" presStyleLbl="sibTrans2D1" presStyleIdx="3" presStyleCnt="5"/>
      <dgm:spPr/>
    </dgm:pt>
    <dgm:pt modelId="{9E27D790-B694-4D00-BF58-C6BA4B1D53F4}" type="pres">
      <dgm:prSet presAssocID="{3CC67942-B1B8-4563-844D-C517F9E919B0}" presName="connectorText" presStyleLbl="sibTrans2D1" presStyleIdx="3" presStyleCnt="5"/>
      <dgm:spPr/>
    </dgm:pt>
    <dgm:pt modelId="{6A530B0C-4572-4DE6-BD39-DD636EC4A5C8}" type="pres">
      <dgm:prSet presAssocID="{EB50A715-B71D-4D0D-A148-0F2FA59DC79A}" presName="node" presStyleLbl="node1" presStyleIdx="4" presStyleCnt="6" custLinFactNeighborX="38" custLinFactNeighborY="57745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A1F793-1BD3-4DC8-8A60-07662C1078A6}" type="pres">
      <dgm:prSet presAssocID="{EC59C6FD-CAE7-4088-8CB2-EFC08A162824}" presName="sibTrans" presStyleLbl="sibTrans2D1" presStyleIdx="4" presStyleCnt="5" custAng="12195440" custScaleX="33972" custScaleY="97329" custLinFactY="-46094" custLinFactNeighborX="-62302" custLinFactNeighborY="-100000"/>
      <dgm:spPr/>
    </dgm:pt>
    <dgm:pt modelId="{1C805FC9-9B94-4CA3-BE4B-A5DF4EE580B0}" type="pres">
      <dgm:prSet presAssocID="{EC59C6FD-CAE7-4088-8CB2-EFC08A162824}" presName="connectorText" presStyleLbl="sibTrans2D1" presStyleIdx="4" presStyleCnt="5"/>
      <dgm:spPr/>
    </dgm:pt>
    <dgm:pt modelId="{F17B46DD-97C2-45F0-99F7-6FE4E7D6059A}" type="pres">
      <dgm:prSet presAssocID="{164FBE7C-5855-48BD-845A-16886964536A}" presName="node" presStyleLbl="node1" presStyleIdx="5" presStyleCnt="6" custLinFactY="-100000" custLinFactNeighborX="70091" custLinFactNeighborY="-114271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67B89A13-1B2E-4FE4-90CD-CD0CBAF4DA10}" srcId="{DFD94E77-A9A9-4BB9-999D-8B85B9F0BD7F}" destId="{E1E399BA-9D0E-45C1-B62B-3D1A49DF17DD}" srcOrd="2" destOrd="0" parTransId="{C8F68E95-24C2-4604-9E8A-6C65C9BE5E76}" sibTransId="{220CA298-1280-4CB3-9CA4-7255A0AC28CC}"/>
    <dgm:cxn modelId="{9B3A665A-1B52-4F49-9633-C4BB5AFE0CE2}" type="presOf" srcId="{164FBE7C-5855-48BD-845A-16886964536A}" destId="{F17B46DD-97C2-45F0-99F7-6FE4E7D6059A}" srcOrd="0" destOrd="0" presId="urn:microsoft.com/office/officeart/2005/8/layout/process5"/>
    <dgm:cxn modelId="{70BCBA68-F700-4A61-931D-10D0382ACABA}" srcId="{DFD94E77-A9A9-4BB9-999D-8B85B9F0BD7F}" destId="{EB50A715-B71D-4D0D-A148-0F2FA59DC79A}" srcOrd="4" destOrd="0" parTransId="{75FFC303-7951-4E2C-BD2D-C4BBC971EDDF}" sibTransId="{EC59C6FD-CAE7-4088-8CB2-EFC08A162824}"/>
    <dgm:cxn modelId="{2066B9EC-99D4-4598-926F-74C2DEEAA7ED}" type="presOf" srcId="{220CA298-1280-4CB3-9CA4-7255A0AC28CC}" destId="{E901D8E8-F7B5-4F7E-9F96-9F30B58F4E28}" srcOrd="0" destOrd="0" presId="urn:microsoft.com/office/officeart/2005/8/layout/process5"/>
    <dgm:cxn modelId="{4DF0DDC7-81B5-43F0-973B-AC74CEC50AF3}" srcId="{DFD94E77-A9A9-4BB9-999D-8B85B9F0BD7F}" destId="{9A43AE84-2CCF-4AA0-885F-4D3E5A727EE9}" srcOrd="1" destOrd="0" parTransId="{11E9C8A9-69D0-447C-9EC1-342B990F6B60}" sibTransId="{F08B05FE-E353-4468-B272-29A39D374BF1}"/>
    <dgm:cxn modelId="{F3384A72-1B5E-42B8-8764-D336269B0666}" type="presOf" srcId="{EC59C6FD-CAE7-4088-8CB2-EFC08A162824}" destId="{6DA1F793-1BD3-4DC8-8A60-07662C1078A6}" srcOrd="0" destOrd="0" presId="urn:microsoft.com/office/officeart/2005/8/layout/process5"/>
    <dgm:cxn modelId="{6444DC1F-4008-4E41-B06F-070CE5A4F363}" type="presOf" srcId="{EB50A715-B71D-4D0D-A148-0F2FA59DC79A}" destId="{6A530B0C-4572-4DE6-BD39-DD636EC4A5C8}" srcOrd="0" destOrd="0" presId="urn:microsoft.com/office/officeart/2005/8/layout/process5"/>
    <dgm:cxn modelId="{B85EAEEE-B1BF-4218-8C81-6C97FD051E6A}" type="presOf" srcId="{C5F65B26-70C3-4EC3-80FF-645B17D99BC9}" destId="{9876C103-B123-4EBE-BDF4-F692E3A0478F}" srcOrd="0" destOrd="0" presId="urn:microsoft.com/office/officeart/2005/8/layout/process5"/>
    <dgm:cxn modelId="{7A0335B7-372D-4B51-BAFE-26D2E48B275D}" type="presOf" srcId="{3CC67942-B1B8-4563-844D-C517F9E919B0}" destId="{1A3F65D1-7A01-451C-8E32-A15B2B4089FE}" srcOrd="0" destOrd="0" presId="urn:microsoft.com/office/officeart/2005/8/layout/process5"/>
    <dgm:cxn modelId="{C8B50637-5C78-4CDD-B955-E7A6A6CDCF47}" type="presOf" srcId="{220CA298-1280-4CB3-9CA4-7255A0AC28CC}" destId="{08B721F2-2538-4FB6-8C7D-F85B0E9380DE}" srcOrd="1" destOrd="0" presId="urn:microsoft.com/office/officeart/2005/8/layout/process5"/>
    <dgm:cxn modelId="{F72C8C66-09FB-4EC1-87EC-9FC1DCA58D4C}" srcId="{DFD94E77-A9A9-4BB9-999D-8B85B9F0BD7F}" destId="{7FE2AD5F-3FBF-47C0-8D56-98C9D394393D}" srcOrd="3" destOrd="0" parTransId="{E93743BB-7E13-4AEA-80F4-BA164BDAAF6E}" sibTransId="{3CC67942-B1B8-4563-844D-C517F9E919B0}"/>
    <dgm:cxn modelId="{EEEA9B79-704C-4FD6-8BBC-B96FF3CB8569}" srcId="{DFD94E77-A9A9-4BB9-999D-8B85B9F0BD7F}" destId="{164FBE7C-5855-48BD-845A-16886964536A}" srcOrd="5" destOrd="0" parTransId="{B80050D1-2A52-4AE6-AE76-5521697E902C}" sibTransId="{4483194D-C3BA-4587-A5C9-CCFB26D36EB5}"/>
    <dgm:cxn modelId="{8DD3F69C-E09C-4CC4-8629-404403187F58}" type="presOf" srcId="{E1E399BA-9D0E-45C1-B62B-3D1A49DF17DD}" destId="{BF7C7106-AC1A-41C0-9E05-9CEE566B844B}" srcOrd="0" destOrd="0" presId="urn:microsoft.com/office/officeart/2005/8/layout/process5"/>
    <dgm:cxn modelId="{F12BDCC9-DEBC-4D3C-AD03-CEF12496D2C5}" type="presOf" srcId="{7FE2AD5F-3FBF-47C0-8D56-98C9D394393D}" destId="{6A49ECED-3A72-487E-8E6B-83A21381C528}" srcOrd="0" destOrd="0" presId="urn:microsoft.com/office/officeart/2005/8/layout/process5"/>
    <dgm:cxn modelId="{9D23B785-45FD-4896-BD84-7C4AF0F91192}" type="presOf" srcId="{F08B05FE-E353-4468-B272-29A39D374BF1}" destId="{3B22E1BC-36DE-4D18-97C1-125222AAF8DD}" srcOrd="1" destOrd="0" presId="urn:microsoft.com/office/officeart/2005/8/layout/process5"/>
    <dgm:cxn modelId="{7194AE7C-6E29-4EEF-8CD1-4FFA4E7958A5}" srcId="{DFD94E77-A9A9-4BB9-999D-8B85B9F0BD7F}" destId="{C5F65B26-70C3-4EC3-80FF-645B17D99BC9}" srcOrd="0" destOrd="0" parTransId="{CBDE275E-B573-4770-8303-077C22A2BF4A}" sibTransId="{E722E5FC-D928-47D7-A60F-3C3C78180818}"/>
    <dgm:cxn modelId="{25557DB1-1C48-4887-9DC5-2514EB6FA0F4}" type="presOf" srcId="{9A43AE84-2CCF-4AA0-885F-4D3E5A727EE9}" destId="{D5E21D48-2409-447D-8776-B82895CD7169}" srcOrd="0" destOrd="0" presId="urn:microsoft.com/office/officeart/2005/8/layout/process5"/>
    <dgm:cxn modelId="{0347F7F5-36C9-4F60-915B-17CE896F44A1}" type="presOf" srcId="{3CC67942-B1B8-4563-844D-C517F9E919B0}" destId="{9E27D790-B694-4D00-BF58-C6BA4B1D53F4}" srcOrd="1" destOrd="0" presId="urn:microsoft.com/office/officeart/2005/8/layout/process5"/>
    <dgm:cxn modelId="{86699CD8-AF56-430F-8F9C-AE5167B96EF5}" type="presOf" srcId="{E722E5FC-D928-47D7-A60F-3C3C78180818}" destId="{2F2CADC5-4BD7-4785-A5CD-E79F3A057FDE}" srcOrd="0" destOrd="0" presId="urn:microsoft.com/office/officeart/2005/8/layout/process5"/>
    <dgm:cxn modelId="{8B0E32A9-F6DB-44EC-8C91-34B32FD89606}" type="presOf" srcId="{F08B05FE-E353-4468-B272-29A39D374BF1}" destId="{1D6A0441-DA08-44DF-9508-C11F179A749E}" srcOrd="0" destOrd="0" presId="urn:microsoft.com/office/officeart/2005/8/layout/process5"/>
    <dgm:cxn modelId="{52DD8E58-DE2B-47FC-8185-E8EFBE9AF0AE}" type="presOf" srcId="{DFD94E77-A9A9-4BB9-999D-8B85B9F0BD7F}" destId="{C00EB2A6-70E4-4331-879E-CE5AF67D6005}" srcOrd="0" destOrd="0" presId="urn:microsoft.com/office/officeart/2005/8/layout/process5"/>
    <dgm:cxn modelId="{3E1B26E4-C839-449F-B2CD-598015F624CA}" type="presOf" srcId="{EC59C6FD-CAE7-4088-8CB2-EFC08A162824}" destId="{1C805FC9-9B94-4CA3-BE4B-A5DF4EE580B0}" srcOrd="1" destOrd="0" presId="urn:microsoft.com/office/officeart/2005/8/layout/process5"/>
    <dgm:cxn modelId="{6C28FFA4-6D0F-499A-B92B-63D0F507CE80}" type="presOf" srcId="{E722E5FC-D928-47D7-A60F-3C3C78180818}" destId="{9F6E1840-1A51-4E56-B500-03242AD245B8}" srcOrd="1" destOrd="0" presId="urn:microsoft.com/office/officeart/2005/8/layout/process5"/>
    <dgm:cxn modelId="{221FE332-340F-4BA5-8D1E-8ED77F865FFC}" type="presParOf" srcId="{C00EB2A6-70E4-4331-879E-CE5AF67D6005}" destId="{9876C103-B123-4EBE-BDF4-F692E3A0478F}" srcOrd="0" destOrd="0" presId="urn:microsoft.com/office/officeart/2005/8/layout/process5"/>
    <dgm:cxn modelId="{D4C4707E-224E-41B2-BDA0-34F1CD99C852}" type="presParOf" srcId="{C00EB2A6-70E4-4331-879E-CE5AF67D6005}" destId="{2F2CADC5-4BD7-4785-A5CD-E79F3A057FDE}" srcOrd="1" destOrd="0" presId="urn:microsoft.com/office/officeart/2005/8/layout/process5"/>
    <dgm:cxn modelId="{E5A52D3B-33FC-40CD-828F-9F3DDC250DE6}" type="presParOf" srcId="{2F2CADC5-4BD7-4785-A5CD-E79F3A057FDE}" destId="{9F6E1840-1A51-4E56-B500-03242AD245B8}" srcOrd="0" destOrd="0" presId="urn:microsoft.com/office/officeart/2005/8/layout/process5"/>
    <dgm:cxn modelId="{CA4DE6E6-B489-4277-8A5E-07967BB3B823}" type="presParOf" srcId="{C00EB2A6-70E4-4331-879E-CE5AF67D6005}" destId="{D5E21D48-2409-447D-8776-B82895CD7169}" srcOrd="2" destOrd="0" presId="urn:microsoft.com/office/officeart/2005/8/layout/process5"/>
    <dgm:cxn modelId="{6C204B6F-6CB9-4F7B-84F0-E378DF009552}" type="presParOf" srcId="{C00EB2A6-70E4-4331-879E-CE5AF67D6005}" destId="{1D6A0441-DA08-44DF-9508-C11F179A749E}" srcOrd="3" destOrd="0" presId="urn:microsoft.com/office/officeart/2005/8/layout/process5"/>
    <dgm:cxn modelId="{714D62D7-3EB5-4815-84E5-8A0CFB04F85D}" type="presParOf" srcId="{1D6A0441-DA08-44DF-9508-C11F179A749E}" destId="{3B22E1BC-36DE-4D18-97C1-125222AAF8DD}" srcOrd="0" destOrd="0" presId="urn:microsoft.com/office/officeart/2005/8/layout/process5"/>
    <dgm:cxn modelId="{27659DF6-ADEE-4752-9F5B-91851D6EB354}" type="presParOf" srcId="{C00EB2A6-70E4-4331-879E-CE5AF67D6005}" destId="{BF7C7106-AC1A-41C0-9E05-9CEE566B844B}" srcOrd="4" destOrd="0" presId="urn:microsoft.com/office/officeart/2005/8/layout/process5"/>
    <dgm:cxn modelId="{FD9AFB8D-32EB-4554-8252-75281E0AEA65}" type="presParOf" srcId="{C00EB2A6-70E4-4331-879E-CE5AF67D6005}" destId="{E901D8E8-F7B5-4F7E-9F96-9F30B58F4E28}" srcOrd="5" destOrd="0" presId="urn:microsoft.com/office/officeart/2005/8/layout/process5"/>
    <dgm:cxn modelId="{9240D9E0-9E67-4C66-9D84-7A215A2A45D4}" type="presParOf" srcId="{E901D8E8-F7B5-4F7E-9F96-9F30B58F4E28}" destId="{08B721F2-2538-4FB6-8C7D-F85B0E9380DE}" srcOrd="0" destOrd="0" presId="urn:microsoft.com/office/officeart/2005/8/layout/process5"/>
    <dgm:cxn modelId="{FB376544-B705-41EA-82E7-BED7D065B8AD}" type="presParOf" srcId="{C00EB2A6-70E4-4331-879E-CE5AF67D6005}" destId="{6A49ECED-3A72-487E-8E6B-83A21381C528}" srcOrd="6" destOrd="0" presId="urn:microsoft.com/office/officeart/2005/8/layout/process5"/>
    <dgm:cxn modelId="{0720256B-4898-43C8-A519-116A08BB78AC}" type="presParOf" srcId="{C00EB2A6-70E4-4331-879E-CE5AF67D6005}" destId="{1A3F65D1-7A01-451C-8E32-A15B2B4089FE}" srcOrd="7" destOrd="0" presId="urn:microsoft.com/office/officeart/2005/8/layout/process5"/>
    <dgm:cxn modelId="{9643AF09-7BE7-4C8C-99D1-BC68A3FA1812}" type="presParOf" srcId="{1A3F65D1-7A01-451C-8E32-A15B2B4089FE}" destId="{9E27D790-B694-4D00-BF58-C6BA4B1D53F4}" srcOrd="0" destOrd="0" presId="urn:microsoft.com/office/officeart/2005/8/layout/process5"/>
    <dgm:cxn modelId="{2E5A1446-7A43-49E2-80E9-DD13E2550319}" type="presParOf" srcId="{C00EB2A6-70E4-4331-879E-CE5AF67D6005}" destId="{6A530B0C-4572-4DE6-BD39-DD636EC4A5C8}" srcOrd="8" destOrd="0" presId="urn:microsoft.com/office/officeart/2005/8/layout/process5"/>
    <dgm:cxn modelId="{B8F9B722-7D5D-4D0E-92AD-D9C0AB787DC6}" type="presParOf" srcId="{C00EB2A6-70E4-4331-879E-CE5AF67D6005}" destId="{6DA1F793-1BD3-4DC8-8A60-07662C1078A6}" srcOrd="9" destOrd="0" presId="urn:microsoft.com/office/officeart/2005/8/layout/process5"/>
    <dgm:cxn modelId="{3B0283B5-82DA-4AAC-AB15-7AD7DD0449FD}" type="presParOf" srcId="{6DA1F793-1BD3-4DC8-8A60-07662C1078A6}" destId="{1C805FC9-9B94-4CA3-BE4B-A5DF4EE580B0}" srcOrd="0" destOrd="0" presId="urn:microsoft.com/office/officeart/2005/8/layout/process5"/>
    <dgm:cxn modelId="{339369E0-D072-4D49-B169-4C8C1C2AEC7B}" type="presParOf" srcId="{C00EB2A6-70E4-4331-879E-CE5AF67D6005}" destId="{F17B46DD-97C2-45F0-99F7-6FE4E7D6059A}" srcOrd="10" destOrd="0" presId="urn:microsoft.com/office/officeart/2005/8/layout/process5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876C103-B123-4EBE-BDF4-F692E3A0478F}">
      <dsp:nvSpPr>
        <dsp:cNvPr id="0" name=""/>
        <dsp:cNvSpPr/>
      </dsp:nvSpPr>
      <dsp:spPr>
        <a:xfrm>
          <a:off x="8054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Generate layout of memory blocks (using </a:t>
          </a:r>
          <a:r>
            <a:rPr lang="en-US" altLang="zh-CN" sz="1400" kern="1200" dirty="0" err="1" smtClean="0"/>
            <a:t>FabMem</a:t>
          </a:r>
          <a:r>
            <a:rPr lang="en-US" altLang="zh-CN" sz="1400" kern="1200" dirty="0" smtClean="0"/>
            <a:t> tool)</a:t>
          </a:r>
          <a:endParaRPr lang="zh-CN" altLang="en-US" sz="1400" kern="1200" dirty="0"/>
        </a:p>
      </dsp:txBody>
      <dsp:txXfrm>
        <a:off x="8054" y="1849764"/>
        <a:ext cx="2161877" cy="1297126"/>
      </dsp:txXfrm>
    </dsp:sp>
    <dsp:sp modelId="{2F2CADC5-4BD7-4785-A5CD-E79F3A057FDE}">
      <dsp:nvSpPr>
        <dsp:cNvPr id="0" name=""/>
        <dsp:cNvSpPr/>
      </dsp:nvSpPr>
      <dsp:spPr>
        <a:xfrm>
          <a:off x="2360177" y="2230254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>
        <a:off x="2360177" y="2230254"/>
        <a:ext cx="458317" cy="536145"/>
      </dsp:txXfrm>
    </dsp:sp>
    <dsp:sp modelId="{D5E21D48-2409-447D-8776-B82895CD7169}">
      <dsp:nvSpPr>
        <dsp:cNvPr id="0" name=""/>
        <dsp:cNvSpPr/>
      </dsp:nvSpPr>
      <dsp:spPr>
        <a:xfrm>
          <a:off x="3034682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Extract GDSII files and double the size of memory blocks</a:t>
          </a:r>
          <a:endParaRPr lang="zh-CN" altLang="en-US" sz="1400" kern="1200" dirty="0"/>
        </a:p>
      </dsp:txBody>
      <dsp:txXfrm>
        <a:off x="3034682" y="1849764"/>
        <a:ext cx="2161877" cy="1297126"/>
      </dsp:txXfrm>
    </dsp:sp>
    <dsp:sp modelId="{1D6A0441-DA08-44DF-9508-C11F179A749E}">
      <dsp:nvSpPr>
        <dsp:cNvPr id="0" name=""/>
        <dsp:cNvSpPr/>
      </dsp:nvSpPr>
      <dsp:spPr>
        <a:xfrm>
          <a:off x="5386805" y="2230254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>
        <a:off x="5386805" y="2230254"/>
        <a:ext cx="458317" cy="536145"/>
      </dsp:txXfrm>
    </dsp:sp>
    <dsp:sp modelId="{BF7C7106-AC1A-41C0-9E05-9CEE566B844B}">
      <dsp:nvSpPr>
        <dsp:cNvPr id="0" name=""/>
        <dsp:cNvSpPr/>
      </dsp:nvSpPr>
      <dsp:spPr>
        <a:xfrm>
          <a:off x="6061311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Import GDSII files into </a:t>
          </a:r>
          <a:r>
            <a:rPr lang="en-US" altLang="zh-CN" sz="1400" kern="1200" dirty="0" err="1" smtClean="0"/>
            <a:t>Milkyway</a:t>
          </a:r>
          <a:r>
            <a:rPr lang="en-US" altLang="zh-CN" sz="1400" kern="1200" dirty="0" smtClean="0"/>
            <a:t> Environment and create CEL view</a:t>
          </a:r>
          <a:endParaRPr lang="zh-CN" altLang="en-US" sz="1400" kern="1200" dirty="0"/>
        </a:p>
      </dsp:txBody>
      <dsp:txXfrm>
        <a:off x="6061311" y="1849764"/>
        <a:ext cx="2161877" cy="1297126"/>
      </dsp:txXfrm>
    </dsp:sp>
    <dsp:sp modelId="{E901D8E8-F7B5-4F7E-9F96-9F30B58F4E28}">
      <dsp:nvSpPr>
        <dsp:cNvPr id="0" name=""/>
        <dsp:cNvSpPr/>
      </dsp:nvSpPr>
      <dsp:spPr>
        <a:xfrm rot="5400000">
          <a:off x="7011576" y="3117975"/>
          <a:ext cx="26134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5400000">
        <a:off x="7011576" y="3117975"/>
        <a:ext cx="261347" cy="536145"/>
      </dsp:txXfrm>
    </dsp:sp>
    <dsp:sp modelId="{6A49ECED-3A72-487E-8E6B-83A21381C528}">
      <dsp:nvSpPr>
        <dsp:cNvPr id="0" name=""/>
        <dsp:cNvSpPr/>
      </dsp:nvSpPr>
      <dsp:spPr>
        <a:xfrm>
          <a:off x="6061311" y="3639998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Create FRAM view from the CEL view and get physical library of memory blocks</a:t>
          </a:r>
          <a:endParaRPr lang="zh-CN" altLang="en-US" sz="1400" kern="1200" dirty="0"/>
        </a:p>
      </dsp:txBody>
      <dsp:txXfrm>
        <a:off x="6061311" y="3639998"/>
        <a:ext cx="2161877" cy="1297126"/>
      </dsp:txXfrm>
    </dsp:sp>
    <dsp:sp modelId="{1A3F65D1-7A01-451C-8E32-A15B2B4089FE}">
      <dsp:nvSpPr>
        <dsp:cNvPr id="0" name=""/>
        <dsp:cNvSpPr/>
      </dsp:nvSpPr>
      <dsp:spPr>
        <a:xfrm rot="10800000">
          <a:off x="5412747" y="4020489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10800000">
        <a:off x="5412747" y="4020489"/>
        <a:ext cx="458317" cy="536145"/>
      </dsp:txXfrm>
    </dsp:sp>
    <dsp:sp modelId="{6A530B0C-4572-4DE6-BD39-DD636EC4A5C8}">
      <dsp:nvSpPr>
        <dsp:cNvPr id="0" name=""/>
        <dsp:cNvSpPr/>
      </dsp:nvSpPr>
      <dsp:spPr>
        <a:xfrm>
          <a:off x="3034682" y="3639998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Create </a:t>
          </a:r>
          <a:r>
            <a:rPr lang="en-US" altLang="zh-CN" sz="1400" kern="1200" dirty="0" err="1" smtClean="0"/>
            <a:t>Milkyway</a:t>
          </a:r>
          <a:r>
            <a:rPr lang="en-US" altLang="zh-CN" sz="1400" kern="1200" dirty="0" smtClean="0"/>
            <a:t> library in ICC and reference the physical library of memory blocks</a:t>
          </a:r>
          <a:endParaRPr lang="zh-CN" altLang="en-US" sz="1400" kern="1200" dirty="0"/>
        </a:p>
      </dsp:txBody>
      <dsp:txXfrm>
        <a:off x="3034682" y="3639998"/>
        <a:ext cx="2161877" cy="1297126"/>
      </dsp:txXfrm>
    </dsp:sp>
    <dsp:sp modelId="{6DA1F793-1BD3-4DC8-8A60-07662C1078A6}">
      <dsp:nvSpPr>
        <dsp:cNvPr id="0" name=""/>
        <dsp:cNvSpPr/>
      </dsp:nvSpPr>
      <dsp:spPr>
        <a:xfrm rot="5400000">
          <a:off x="2357848" y="1518479"/>
          <a:ext cx="435322" cy="52182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5400000">
        <a:off x="2357848" y="1518479"/>
        <a:ext cx="435322" cy="521825"/>
      </dsp:txXfrm>
    </dsp:sp>
    <dsp:sp modelId="{F17B46DD-97C2-45F0-99F7-6FE4E7D6059A}">
      <dsp:nvSpPr>
        <dsp:cNvPr id="0" name=""/>
        <dsp:cNvSpPr/>
      </dsp:nvSpPr>
      <dsp:spPr>
        <a:xfrm>
          <a:off x="1522514" y="121572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Layer mapping file</a:t>
          </a:r>
          <a:endParaRPr lang="zh-CN" altLang="en-US" sz="1400" kern="1200" dirty="0"/>
        </a:p>
      </dsp:txBody>
      <dsp:txXfrm>
        <a:off x="1522514" y="121572"/>
        <a:ext cx="2161877" cy="129712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5">
  <dgm:title val=""/>
  <dgm:desc val=""/>
  <dgm:catLst>
    <dgm:cat type="process" pri="1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axis="self" func="var" arg="dir" op="equ" val="norm">
        <dgm:alg type="snake">
          <dgm:param type="grDir" val="tL"/>
          <dgm:param type="flowDir" val="row"/>
          <dgm:param type="contDir" val="revDir"/>
          <dgm:param type="bkpt" val="endCnv"/>
        </dgm:alg>
      </dgm:if>
      <dgm:else name="Name2">
        <dgm:alg type="snake">
          <dgm:param type="grDir" val="tR"/>
          <dgm:param type="flowDir" val="row"/>
          <dgm:param type="contDir" val="revDir"/>
          <dgm:param type="bkpt" val="endCnv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forName="sibTrans" refType="w" refFor="ch" refPtType="node" op="equ" fact="0.4"/>
      <dgm:constr type="sp" refType="w" refFor="ch" refForName="sibTrans" op="equ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</dgm:constrLst>
          <dgm:ruleLst/>
          <dgm:layoutNode name="connectorText">
            <dgm:alg type="tx">
              <dgm:param type="autoTxRot" val="upr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8BB-4BDA-46D8-A065-E7E1F55A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1A6-3330-4AA8-9E4E-418AB05A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A39-90EB-44EC-B7FB-95FAB75A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100-6FEA-49F5-BCCB-6DAD08C1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5F56-0048-4B6B-8538-3964B494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B115-A440-4C9B-B05D-369B4EEC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EF96-BF77-49EE-9B27-A5134C35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A99A-0924-421C-AAD1-CAED4EBD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C742-DC13-46F9-B1D1-6BF8F5CD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5D88-7E2B-492A-B083-8552962A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4460-67EA-4F90-A99F-970E14F0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EC1-1607-4B37-B7DF-93752A8C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4E71-811E-4147-9920-B72BD5BC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D642-8821-494F-86D0-0F9C834B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EE9F-7034-4000-BE84-19F97B50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63D8-3379-414C-ABD1-2BDD2884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DF4E-1C05-4D8A-9E3E-E523C145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FF9-4554-4ABE-B728-693B4177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830-1010-4FA5-B950-BAF78DC4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3F3-351E-4EB7-82DA-51FC931B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8FA-3660-4DEF-9A12-15AA3120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9A8-1A15-4CB8-BF5D-60B704E9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CF9-8186-4B76-A159-1E6D17EF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59D-9E74-4F3A-91D6-609D0DF6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7F80614-F9DD-405C-8B5B-A1184DBB0E8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392B8F9-C0FC-4834-9B5E-BEA8EDDABED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C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EL View – SRAM_4R4W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1436400"/>
            <a:ext cx="8229240" cy="45025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8847-CCBB-4492-A471-80EFC4FCA9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AM View – SRAM_4R4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57200" y="1433880"/>
            <a:ext cx="8229240" cy="45075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EF70-C9CF-4BC9-B7DC-6FB61EC2E6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rrors Before Adding Memory Physical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66640" y="1325520"/>
            <a:ext cx="8010000" cy="47239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2332-C6F9-4CE0-AD31-ACA5EEB31D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rrors After Adding Memory Physical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52600" y="1325520"/>
            <a:ext cx="8038800" cy="47239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E7C0-DC4B-4A4A-9DE1-F11DCFAB8C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ew Proble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ill missing a lot of instances in the physical libr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1ICach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eDecode_PISA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ecode_PISA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RAM_4R8W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RAM_4R1W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lect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wardCheck_7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“SRAM_4R8W”and “SRAM_4R1W”could not be generated from FabMem (only able to generate memories with XRXW and 2XRXW port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st of the other instances are very similar to memories, but they are not standard memory blocks and could not be generated from FabM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E9E1-CBE9-4855-A2D7-F5D0204FAF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blems Remai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ill could not generate the remaining instanc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ld not move forward without these instances in the physical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DFF3-8A19-4E9F-BF48-EDFB115260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Tools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using IC Compiler – Problems and solu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to do n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EC9C-E587-4DF9-B64B-8154E020AB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 Tools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Gen: This tool generates synthesizable RTL of a superscalar core based on user-specified parameter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Front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Back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Pipeline depths of canonical pipeline stag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Issue queue siz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: This tool estimates read/write delays, read/write energies, and area of user-specified multi-ported RAMs/CAMs. It can also generate layouts of desired RAMs/C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B5C1-9EC1-4D28-A5A9-F55534472E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bGen-generated RTL is synthesiz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starting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nt-out the verification components to remove unsynthesizable verilog needed for simulation only: VPIs (the verilog/C++ co-simulation environment) and performance cou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FabMem to generate custom designs of these critical memory structures, including full layouts, SPICE netlists, and LEF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uring synthesis, remove the behavioral modules of the memory structures and constrain their input-port and output-port timing paths based on timing numbers from SPICE simula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place-and-route, use the LEFs to represent the memory structure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80CF-B82C-4DF1-947F-EED0321BE8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100" spc="-1" strike="noStrike">
                <a:solidFill>
                  <a:srgbClr val="464653"/>
                </a:solidFill>
                <a:latin typeface="Bookman Old Style"/>
              </a:rPr>
              <a:t>Physical Design – Problems Encountered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CC reports errors when importing netlist generated from synthes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rror message examples from IC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SRAM_4R8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CAM_4R4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rning message examples from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SRAM_4R8W' in 'InstructionBuffer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CAM_4R4W' in 'IssueQueue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use of the err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 corresponding memory cells in the Milkyway library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 uses 45nm FreePDK library and our design uses the 90nm EDK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0A83-DA63-4F3A-8115-827AB7D4B2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– Adapt the memory blocks generated from the FabMem tool to the 90nm technolog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could generate layouts of memories, from which we can get the GDSII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adapt these layouts to the 90nm technology, we need to modify the GDSII files t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uble the size of each physical component in the layou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p each layer in the FreePDK library to these layers in the 90nm technology libra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52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mport these memory blocks to the Milkyway Library using the Milkyway Environment tool and the new GDSII memory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2433-A7E4-4778-959C-F4994B3777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Library Prep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using IC Compiler, logical and physical libraries must be created that accurately reflect the characteristics of the available technology and cells that will be used to fabricate the chi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generated cores use a lot of RAM/CAM blocks, most of which are multi-por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tandard cells are already provided in the 90nm physical library, but macros like memory blocks are not provid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mory blocks must be created in the physical library. This can be done in the Milkyway Environ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yout data of these memory blocks are provided by FabMem.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D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E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798A-D67E-432F-B03E-255825140C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Library Preparation – Memo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098435204"/>
              </p:ext>
            </p:extLst>
          </p:nvPr>
        </p:nvGraphicFramePr>
        <p:xfrm>
          <a:off x="457200" y="1219320"/>
          <a:ext cx="8229240" cy="4936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4AFA-49C6-4F93-A241-BA439E63C0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1000"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ibrary Preparation Flow in the 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79640" y="1196640"/>
            <a:ext cx="5045400" cy="51123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B060-0B1F-48FE-9B9B-53AE01CC77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834</TotalTime>
  <Application>LibreOffice/7.4.7.2$Linux_X86_64 LibreOffice_project/40$Build-2</Application>
  <AppVersion>15.0000</AppVersion>
  <Words>670</Words>
  <Paragraphs>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5-08T17:59:44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5</vt:r8>
  </property>
</Properties>
</file>